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BBC-18D8-46EE-83E1-C5707746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EAB-9829-4D42-9728-E7C66FF3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C7F-3F46-4E2B-A564-1886AB9D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9EF-4A16-44C1-8C40-9A664E5D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01B0-BFCE-48DC-98DD-C0188BDF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3540-749E-4B18-85D1-319853B1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64C1-3224-42C7-9200-988F7098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E113-A54F-4373-BC15-76A740C2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F9DC-6793-48C9-8A11-C3EB921F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CEF4-5EBB-403B-8DC0-9BD49FF9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2962-7ABA-4E5F-8C5F-99C40A15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C1F-51D4-4318-8656-124760FE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0318-D671-46B0-A0A9-F1BB0CF3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7F05-DCB9-4963-9B77-DDCFEC2A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D12E-E7C0-4F9A-BDC1-1B10CDBD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F6DE-99E8-4EC1-9629-0DF44635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1797-FA66-4814-800D-8531ED0B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3A4-2F51-45F8-B36E-EA487BB8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A5D-28E1-4CC0-AC93-E249BBB9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176-0842-4637-8078-A1DD1ADA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008-2242-43DA-B10C-9F745C0F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4DE-792E-4DFC-991D-32C9E7E5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0EB-C41E-4485-86E0-60589DBC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3F8-A10B-446F-901F-9121C720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2109-173A-4AFA-9D05-E0D2295BEEC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E216-970B-4057-ABFA-A446B635CEE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be a safe pedestri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Ascot Community School Counc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ank you fo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stening and 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pe you lear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ap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3440" y="1981080"/>
            <a:ext cx="377316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THIS IS 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 the right &gt;&gt;&gt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 your school counci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very week someone from the school council will give you some tip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 how to be a safe pedestria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s week  the topic is how to st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fe at pedestrian crossing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7339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 the pedestrian cro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n though it means walking 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ttle furth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810240" cy="2857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lk up to the k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n take one small step bac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ok and listen before you 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ross, if there are no vehic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lk quickly acro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505320" cy="419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7960" y="4190760"/>
            <a:ext cx="3809880" cy="198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there is an approach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hicle make eye contact wit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river and check wheth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slow down for you 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sure you check the traff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next la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ile crossing in front of 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hicle check to make su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are no vehicles in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 la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09880" cy="2857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ep looking and liste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the way acro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o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there is a traffic island In t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ddle stop and check that i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still saf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21:35:46Z</dcterms:created>
  <dc:creator>Ministry of Education</dc:creator>
  <dc:description/>
  <dc:language>en-US</dc:language>
  <cp:lastModifiedBy>Educating NZ</cp:lastModifiedBy>
  <dcterms:modified xsi:type="dcterms:W3CDTF">2008-08-17T23:25:09Z</dcterms:modified>
  <cp:revision>4</cp:revision>
  <dc:subject/>
  <dc:title>How to be a safe pedestrian</dc:title>
</cp:coreProperties>
</file>